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DB4-B899-4528-A78F-713DCAFA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33E-032B-4FAF-977F-467DF3D3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7955F-E6FD-4082-BB13-EA18302D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3B121-2B98-4232-B7A9-A4733FC1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5283C-57D2-4D1E-9CA0-269A84CE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A5182-7116-4118-9F99-352E3026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976E4-D8EA-467E-8115-D2E72C5C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AAA0C-A96D-42A3-8D91-18EA3A62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E74E3-7002-47E5-8E7F-F3F9B7B6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11B02-CA7A-40D3-8440-3D91793A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8C612-ED3C-4772-BE72-4D35C49F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59112-D110-43E4-86C9-B5A6D2D2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E0D-C1B1-48D7-AE29-3982C36B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57EB6-12BC-4C93-BD64-701FDA48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EDBF1-26D0-4677-BC10-4F8E3150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E08C2-22C2-4820-B503-84D491EC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13820-80FF-4A64-890B-9C5D6849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A77D3-BC7F-40D6-887D-6AA210A6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C7D45-3587-4722-B49C-1A4E6C74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EE62C-228E-4236-A2E3-F81CB47D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DBB02-1F55-467D-BCE5-187E4EDA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A634E-D479-44B4-BFAE-E06C860D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5EE91-E03F-4D66-BF7F-71893317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7A3-1CD4-429E-9AF5-6A1480DB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0EB5F-1EB2-48B5-AAC9-0D4D6320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ED0D-4B65-4045-8FE6-4A451ADB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D375-31F7-4CCA-A559-CBE06874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3989-960F-4568-89DD-28031926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26E8-26B6-417E-8E76-52C4A47A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0DDA-85D7-4304-9907-A0A38815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0315-186A-40EF-9A7A-D4E1B297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CDCC-03E7-4969-9ECB-8DEB9909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84F-792B-41FB-A981-46D2A521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4A54-BB54-49A6-8A25-724F204B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7708-0E4E-4516-90EB-9ED32649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94DD-BC8E-4E6C-A4C9-A5E152F9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E248-6A81-4EB6-B808-C5DD0EE4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FEE1-BF30-4849-BBD3-6C587456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EA502-7B8E-4FCB-A8B3-B5565703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33E24-584F-455A-B059-05BBB85B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F50E2-B677-41DB-A76D-F0BC13ED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42062-AA77-468F-9E8F-51968EF4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1B689-3B8F-4852-8BF6-7704B863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4583-9B63-49F3-9035-951FACAB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779AB-E689-4AFE-881E-ECA60F35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E4FD8-EFAD-43E8-8E71-9B105F8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3CC47-DA36-44D4-9E62-A51A81E2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9B4A-F740-47E0-8F94-E32B5E9E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6A13C-C4FA-41AA-8F86-20ADC753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0A6F0-089D-451A-A7CF-BF809AF3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3B69-27EF-4A6A-BBA3-174FFF0F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C36C9-4C35-4A67-A1D7-CB4D8E90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B6FFC-D1A7-445C-9775-4E8991B4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40577-ED47-44F5-B503-0F0EEFDE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15F-308B-4A11-8E38-7E5CCE43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8205E-209F-4EA3-851C-0F3EE00C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D98CB-1898-4267-9034-8015FE7A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29970-BF5C-432C-B45B-D623B879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5786E-1B33-4C5A-9BBF-1151DE90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12796-472E-4D73-865C-B60561ED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740ED-82E7-4D44-8C5C-4C2D2029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1514D-8CA6-4959-B7AF-FC4FEE70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7FEE5-469E-43F5-B9F3-A47FD63E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B3683-7DCD-4FA3-883A-5BF9D59B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0A0D9-D5A1-45B0-A07A-3DBAC375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57F-C2EC-4D22-A26F-C8FA3AB0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262DF-1F1C-4544-B347-D2C151BE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1D8A7-5552-4D45-B693-D61D3EED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F9354-C5C0-4225-8ABF-175F349D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541D8-001D-417A-A1A8-EB1E59C4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BFF87-2AB0-4AFC-971A-BB0B78D6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857B9-AFAA-4E63-8832-461A975D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2EE44-3065-4907-844B-2F5DF25D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D7713-1F26-424F-A06F-3D7B66AA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23DE3-CCE6-48E2-8B09-33EE2ECE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4FB4F-F41F-4B9F-992F-309B1970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6E2-2D8B-4C8D-BBE3-A4F264B4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554E6-6E13-4FF1-BC70-DA72EFBA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69BE3-0B0D-496B-9486-5520957B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AEBC5-3CD6-43AE-88D5-C9BE85D0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58CE2-F7D2-4ECA-9977-8910AC3D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0ABA6-EEA5-48D1-8410-96D4DC3D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46E1E-475A-401A-AC92-18EBE5C0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6D0AE-3E41-4A29-B034-3E1B1A91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A62E3-B3D3-4390-805C-67258778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BF597-B7A2-47A9-A90E-3EC90BF8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2E37D-885B-4FED-AFEA-33A0156E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C65-C8CF-401C-8DA6-506A0467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CAADD-CFBE-4513-97D3-BAFA4314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4FC5A-2FE3-494D-8618-0B0CDFED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7CDFE-4D23-4AE8-91DF-DF61B587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8E534-799B-40C6-B6C1-470D4C35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CB7C9-E3FC-4939-A43C-7911C130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7BE01-3A25-4E23-A90B-EAA847A4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F64BD-0CF2-4363-8E46-B0FE4E9C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4500A-7717-4F62-923D-54321430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0DF6E-9F28-42C0-832D-CEFF52BC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D80B9-F6CA-4894-860B-AB5DAA54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7B9E-5DF5-489A-B2A7-F7BD1118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1257A-755D-43EE-8060-16444ECB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7B64C-5BA9-4963-A156-7B9D3CD0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749DF-5DEB-499E-A654-A2C88CE8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30FC0-5C97-4849-838E-61CEE78C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57B98-3A80-4251-A9F1-00449F06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62768-0AD1-47B1-9787-D290AD4A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C90EE-C30A-4CC1-B239-988C9331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3FEEE-4A55-4E0D-B5F3-4D153434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5F957-F970-48D8-B74E-6137AB68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C37D2-96FA-45AA-9EC9-808B28F5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75C-C824-43D8-8EB2-7B387AF2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12049-C4BE-44AE-BC6D-F42999FE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7BB30-B52A-487F-B4A1-20AED72D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517C3-AB3F-466E-A4C2-DCEAE520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ECBE1-89DF-44FC-8512-6D00AAF6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A7DF0-B5D6-4B9F-9837-FE6F42D9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9FA50-889F-4069-B059-9BEFC2A7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82CD7-53F5-4C3E-9C0E-75926A42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8EB58-915C-407F-98CC-8D373903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6489A-74B5-4F71-9AD0-28CBCE96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14BF8-A8C8-4E68-8A0E-CFE84A8C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543D-DDEB-4B30-BE12-FC55B82700E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7052-8DC2-4209-B80A-2797CF96214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270A-506C-4E18-8358-BDD6A9E82D3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E9AF-C761-40FA-A3B0-35EA1DAD219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9167-2AD8-4DBA-936E-39B6FDBB6AE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A2E8-D573-400E-BE76-DFDD1315CE1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2E8F-194F-43DB-8A90-CADAC6B7C78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AAF3-4ED1-41A0-9F51-40B99A6CFEA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A932-0DFA-43DC-9A57-6B677724993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9064-F1E2-4462-8C04-34F9254F140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2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1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안녕하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시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앉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erminate the following verbs with declarative, interrogative, and imperative e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하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히 계십시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 계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히 가십시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가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  <a:ea typeface="굴림"/>
              </a:rPr>
              <a:t>Study honorific expressions, talking up and down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peaceful, be fine, be w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yes (In the dialogue here, it means ‘I’m fine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히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dverb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계시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olite expression of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stay, 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종결어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Terminative End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서술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Decla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의문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nterrog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명령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mpe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 (Part of ending, honorific suff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3498840" y="2133720"/>
            <a:ext cx="5400720" cy="28861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233280" y="285840"/>
            <a:ext cx="4343400" cy="2095560"/>
          </a:xfrm>
          <a:prstGeom prst="rect">
            <a:avLst/>
          </a:prstGeom>
          <a:ln w="0">
            <a:noFill/>
          </a:ln>
        </p:spPr>
      </p:pic>
      <p:sp>
        <p:nvSpPr>
          <p:cNvPr id="505" name="직사각형 3"/>
          <p:cNvSpPr/>
          <p:nvPr/>
        </p:nvSpPr>
        <p:spPr>
          <a:xfrm>
            <a:off x="4602240" y="3049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classroom.re.kr/uploadfile/content/content02/second04/data03/5_3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3"/>
          <a:stretch/>
        </p:blipFill>
        <p:spPr>
          <a:xfrm>
            <a:off x="3564000" y="5157720"/>
            <a:ext cx="4781520" cy="1533600"/>
          </a:xfrm>
          <a:prstGeom prst="rect">
            <a:avLst/>
          </a:prstGeom>
          <a:ln w="0">
            <a:noFill/>
          </a:ln>
        </p:spPr>
      </p:pic>
      <p:sp>
        <p:nvSpPr>
          <p:cNvPr id="507" name="직사각형 4"/>
          <p:cNvSpPr/>
          <p:nvPr/>
        </p:nvSpPr>
        <p:spPr>
          <a:xfrm>
            <a:off x="262080" y="5924520"/>
            <a:ext cx="315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dlegongbuwarac.edupia.com/xmlPrint.aspx?did=20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입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ut on, 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배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ar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만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기다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주무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leep (h.f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오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om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부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rite (bitter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마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in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수시다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xerci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타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ide, boar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9-17T02:02:25Z</dcterms:modified>
  <cp:revision>61</cp:revision>
  <dc:subject/>
  <dc:title>KOREAN LANGUAGE</dc:title>
</cp:coreProperties>
</file>